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10C-DA10-483E-9070-4CD2E585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156-8D6E-4EEA-83F9-08B0E5E6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18D-EF16-4712-9F4B-2EE2A07A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F65-EDC7-41F7-B202-4FF8CF1C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C171-80FA-4ABE-AC26-4061FBF4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3E6B-891E-4320-9411-9E2313D4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F84-958D-48DC-936B-884EC00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BDE0-1E06-4C87-AFB4-6C75DEE7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7F52-212A-46E2-8994-70142A5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BA2D-2B51-45A0-9A4A-22C85229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CBB9-11D5-4631-821E-509D014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EB3-9983-4165-9505-F2D16985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42E1-C1C8-4CE4-81D7-5448A6E9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CCCC-D2C2-4D47-9FAC-08F3F14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FAEE-4424-4F7F-ACC7-B22F5AE2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3F74-C935-4DA2-8012-1001CB78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47E-BC28-4C07-B6F9-0F9A8BDB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1E3AE-70DA-49DB-B3B0-72E81B65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E4CDE-27D7-436B-90D8-C321BB8A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EA8D6-2E30-435C-9BFB-F6230E85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FA043-E657-43E1-9D49-EAD556DE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CE9A3-4DAF-48E7-BE7E-34F4244D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4EE-B60D-4514-95D8-AD59A38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BC3E1-785B-4BBD-B541-ACA69FF2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03BD7-E1EC-4698-80C0-FE08072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E2C71-A15C-4B01-8A9C-29C34B3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C25D-CC62-4484-8496-D282080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92C2A-C319-47CA-9A6A-57503C8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635F3-90F1-4212-B4E0-7A3E34C6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83D03-26E1-40ED-BB9A-6BEB6992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1008-F53C-4231-91D8-96492475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3AF5-BA65-45BF-8950-2835E7C7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4BBE-C53C-48D0-AE66-2F9EE04F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4AC-C17E-4BCD-B054-F0CF2D8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E06D-1CC1-4B32-8DDA-62667C75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5739-7FD5-404E-B806-335C3A8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345C-8FDE-4354-B96F-F67559D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01F3-8E38-462C-B3FC-921F9EA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E1B4-51E7-4DC1-98B8-846700E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A5F6-5D94-4713-AA87-5BEA5CD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A903-108A-4D0B-B78B-F01B0579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773D-C4F1-4038-B072-917FFC8B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7FA7-0C68-4708-B670-971E6CC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F26-A97E-45F9-88CC-4D7C104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1BA-7F91-439C-8AC8-A2A85D76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DD2-2361-431C-BAD7-84A3297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CAF-E7F0-4DB2-91DF-A44A248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4DD-3E42-4C78-A7E5-4A43656A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F232-F69E-4B48-96B2-B552CF3A271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4385-81AB-4122-95A1-003A6DCDB34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B21E-A45D-41C8-8B28-F489116E414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9931-9B09-46CE-9826-26892A8F769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hapter 6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Sports Marketing Career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406224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orting Good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600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porting goods are sold in both retail outlets and wholesale outle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nufacturers, wholesalers, and retailers of sporting goods employ salespeople to get the products out on the market and technical representatives who go to stores to train salespeopl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nufacturers-Nike, Reebok, Adid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porting-good retailers-Sports Authority, Champ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1523880" cy="143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d26yigxxs6gued.cloudfront.net/img/partners/art/Champs-Sports-Logo.png"/>
          <p:cNvPicPr/>
          <p:nvPr/>
        </p:nvPicPr>
        <p:blipFill>
          <a:blip r:embed="rId2"/>
          <a:stretch/>
        </p:blipFill>
        <p:spPr>
          <a:xfrm>
            <a:off x="4008600" y="4952880"/>
            <a:ext cx="3838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Professional and Collegiate Sport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eason ticket sales representativ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icket services manag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nside sales associat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rporate/ticket sales personne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ccount executive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roup-sales manag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4720" y="2313000"/>
            <a:ext cx="40417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rketing coordina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rector of market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rector of communica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rector of promot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2" descr="http://www.ecenglish.com/blogs/Cape-Town/wp-content/uploads/2009/01/business-people_000001227086small.jpg"/>
          <p:cNvPicPr/>
          <p:nvPr/>
        </p:nvPicPr>
        <p:blipFill>
          <a:blip r:embed="rId1"/>
          <a:stretch/>
        </p:blipFill>
        <p:spPr>
          <a:xfrm>
            <a:off x="5562720" y="4648320"/>
            <a:ext cx="227160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ports Associations and Organizations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B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NB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F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H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SCA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G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2" descr="http://4.mshcdn.com/wp-content/uploads/2011/07/nfl-logo.jpg"/>
          <p:cNvPicPr/>
          <p:nvPr/>
        </p:nvPicPr>
        <p:blipFill>
          <a:blip r:embed="rId1"/>
          <a:stretch/>
        </p:blipFill>
        <p:spPr>
          <a:xfrm>
            <a:off x="6172200" y="2133720"/>
            <a:ext cx="1711440" cy="113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scm-l3.technorati.com/12/07/27/70831/NBA.png?t=20120727000403"/>
          <p:cNvPicPr/>
          <p:nvPr/>
        </p:nvPicPr>
        <p:blipFill>
          <a:blip r:embed="rId2"/>
          <a:stretch/>
        </p:blipFill>
        <p:spPr>
          <a:xfrm>
            <a:off x="6858000" y="3733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4.bp.blogspot.com/-oYvAORQP7cE/UFmYSxyxh_I/AAAAAAAAACQ/IeryRAborqo/s1600/mlb-logo.jpg"/>
          <p:cNvPicPr/>
          <p:nvPr/>
        </p:nvPicPr>
        <p:blipFill>
          <a:blip r:embed="rId3"/>
          <a:stretch/>
        </p:blipFill>
        <p:spPr>
          <a:xfrm>
            <a:off x="3897360" y="3144960"/>
            <a:ext cx="1254240" cy="939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upload.wikimedia.org/wikipedia/en/thumb/e/e4/NHL_Logo_former.svg/150px-NHL_Logo_former.svg.png"/>
          <p:cNvPicPr/>
          <p:nvPr/>
        </p:nvPicPr>
        <p:blipFill>
          <a:blip r:embed="rId4"/>
          <a:stretch/>
        </p:blipFill>
        <p:spPr>
          <a:xfrm>
            <a:off x="5934240" y="4084560"/>
            <a:ext cx="1023840" cy="1050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www.nysportsjournalism.com/storage/PGA_TourLogo.gif?__SQUARESPACE_CACHEVERSION=1291836781567"/>
          <p:cNvPicPr/>
          <p:nvPr/>
        </p:nvPicPr>
        <p:blipFill>
          <a:blip r:embed="rId5"/>
          <a:stretch/>
        </p:blipFill>
        <p:spPr>
          <a:xfrm>
            <a:off x="4533840" y="4361040"/>
            <a:ext cx="1290600" cy="154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https://twimg0-a.akamaihd.net/profile_images/2309109151/79vdiopjz64qyl0pxods.png"/>
          <p:cNvPicPr/>
          <p:nvPr/>
        </p:nvPicPr>
        <p:blipFill>
          <a:blip r:embed="rId6"/>
          <a:stretch/>
        </p:blipFill>
        <p:spPr>
          <a:xfrm>
            <a:off x="4359240" y="197820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ports Association and Organizat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jor League Basebal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ional Basketball Association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omen’s National Basketball Associ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ional Football Leagu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ional Hockey League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jor League Socc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tional Association for Stock Car Auto Racing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fessional Golfers’ Associatio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Broadcast, Online, and Print Med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the US, media coverage and treatment of sports are extensive and operate through many communication chann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SPN, Sports Illustrated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2" descr="https://twimg0-a.akamaihd.net/profile_images/2553495291/pte9c947iyknmtdon8ge.jpeg"/>
          <p:cNvPicPr/>
          <p:nvPr/>
        </p:nvPicPr>
        <p:blipFill>
          <a:blip r:embed="rId1"/>
          <a:stretch/>
        </p:blipFill>
        <p:spPr>
          <a:xfrm>
            <a:off x="144792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sportsmediamasters.com/smm/wp-content/uploads/2012/05/Sports-Illustrated-logo.jpg"/>
          <p:cNvPicPr/>
          <p:nvPr/>
        </p:nvPicPr>
        <p:blipFill>
          <a:blip r:embed="rId2"/>
          <a:stretch/>
        </p:blipFill>
        <p:spPr>
          <a:xfrm>
            <a:off x="4572000" y="4419720"/>
            <a:ext cx="24764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orts Venu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2514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acilities or locations where sporting events take plac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icket collection, security, maintenance, parking, vendors, concess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3200400" y="434988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orts Agenc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anies that specialize in marketing and managing sports events, sports teams, and professional athlet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40482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2:56:15Z</dcterms:created>
  <dc:creator>Windows User</dc:creator>
  <dc:description/>
  <dc:language>en-US</dc:language>
  <cp:lastModifiedBy>Windows User</cp:lastModifiedBy>
  <dcterms:modified xsi:type="dcterms:W3CDTF">2012-11-26T13:31:23Z</dcterms:modified>
  <cp:revision>7</cp:revision>
  <dc:subject/>
  <dc:title>Chapter 6</dc:title>
</cp:coreProperties>
</file>